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5200" y="747720"/>
            <a:ext cx="494964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ter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9720" y="4718160"/>
            <a:ext cx="4976640" cy="446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6C6F5-7674-4206-8F7F-99438734A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8659E-F245-4B46-87A8-9CBAB7681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C8D84-A069-4B58-8A70-556FA4491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8C323-15CE-41AA-9F49-1C3225133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F41CF-EB09-44C4-B8B3-A4DBD86C3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BD17F-67F2-4276-A570-CDB231180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FB764-8DC9-4BFB-93EB-0E1D26856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2F736-6F12-48E5-B236-9FB611AB6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68731-18A5-4DB2-8302-BC342A5F3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4FB11-B460-48D0-90CC-E1C3851B8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9D408-8380-4D94-97F3-8AD009463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2581-D2A7-468C-8742-DBE8F631F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7840" y="6524280"/>
            <a:ext cx="7620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075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075"/>
                </a:solidFill>
                <a:latin typeface="Times New Roman"/>
                <a:ea typeface="Arial"/>
              </a:rPr>
              <a:t>The EU perspective on stress testing: CEBS Guidelines | Oleg Shmeljov, 29 November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81800" y="6497280"/>
            <a:ext cx="5331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313A-4D29-42E5-8712-B250ADFD0D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EBA_master_logo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5080" y="110952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nking Authority</a:t>
            </a:r>
            <a:endParaRPr b="0" lang="en-US" sz="4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56080" y="3654000"/>
            <a:ext cx="4884480" cy="87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ctr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Banking Fed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281800" cy="6764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792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ntributing to the single EU rule book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090080"/>
            <a:ext cx="8281800" cy="52023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517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book’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harmonisatio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 proportionate in order to capture differences acros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work on ‘basic acts’ (sectoral Direc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role: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eliminating options and national discr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EBA work on ‘implementing legislatio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guidelines and recommendations (as 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draft binding technical standards (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512640" y="314280"/>
            <a:ext cx="8282160" cy="6876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3960" tIns="90000" bIns="90000" anchor="b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Building the single rulebook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12640" y="1000080"/>
            <a:ext cx="8282160" cy="5402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broad: Basel III, Bank resolution, Financial innovation, Consumer protection, Deposit guarantee schemes, AML, Payment services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and Binding Technical Standard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sel III, 40+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porting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texts: high quality needed, clarity, Q&amp;A for consistent applicat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ing breaches of EU regul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global consistency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0" y="6659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asel III transposition into EU legisl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003320" y="1249200"/>
            <a:ext cx="7315200" cy="8161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l III  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1" name="Down Arrow 9"/>
          <p:cNvSpPr/>
          <p:nvPr/>
        </p:nvSpPr>
        <p:spPr>
          <a:xfrm>
            <a:off x="2182680" y="2408400"/>
            <a:ext cx="484200" cy="979200"/>
          </a:xfrm>
          <a:prstGeom prst="downArrow">
            <a:avLst>
              <a:gd name="adj1" fmla="val 50000"/>
              <a:gd name="adj2" fmla="val 50089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2" name="Down Arrow 13"/>
          <p:cNvSpPr/>
          <p:nvPr/>
        </p:nvSpPr>
        <p:spPr>
          <a:xfrm>
            <a:off x="1887480" y="235908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3" name="Down Arrow 16"/>
          <p:cNvSpPr/>
          <p:nvPr/>
        </p:nvSpPr>
        <p:spPr>
          <a:xfrm>
            <a:off x="2585880" y="215280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4808520" y="2959200"/>
            <a:ext cx="3533760" cy="33433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sed Capital Requirements Directive  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eds to be transposed into national law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ing up/pursuit of busines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eedom of establishment and free movement of service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udential supervision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 buffer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rporate Governanc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nction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1000080" y="2963880"/>
            <a:ext cx="3535560" cy="333216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Requirements Regulation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ly applicable with immediate effect in all Member States 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unterparty credit risk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6" name="Down Arrow 24"/>
          <p:cNvSpPr/>
          <p:nvPr/>
        </p:nvSpPr>
        <p:spPr>
          <a:xfrm>
            <a:off x="6346800" y="215748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Summary CRR/CRDIV tasks for EBA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1328760" y="1398600"/>
          <a:ext cx="64944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398600"/>
                    <a:ext cx="64944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TS drafting and adoption proces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the draft by the Project Team in co-operation with EBA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- benefit and Impact Assessment analysis of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draft proposals by the Board of Supervisors according to its rules o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ultation of the BSG and public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dback process and updating of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the draft TS, publication, and submission to the Commission and the other EU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key priorities in Regul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ity r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luster Oversight and its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248" name="Diagram 2"/>
          <p:cNvGrpSpPr/>
          <p:nvPr/>
        </p:nvGrpSpPr>
        <p:grpSpPr>
          <a:xfrm>
            <a:off x="878040" y="1278000"/>
            <a:ext cx="7591320" cy="4537080"/>
            <a:chOff x="878040" y="1278000"/>
            <a:chExt cx="7591320" cy="4537080"/>
          </a:xfrm>
        </p:grpSpPr>
        <p:sp>
          <p:nvSpPr>
            <p:cNvPr id="249" name="_s2052"/>
            <p:cNvSpPr/>
            <p:nvPr/>
          </p:nvSpPr>
          <p:spPr>
            <a:xfrm>
              <a:off x="3675240" y="1974960"/>
              <a:ext cx="1996920" cy="1996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0" name="_s2053"/>
            <p:cNvSpPr/>
            <p:nvPr/>
          </p:nvSpPr>
          <p:spPr>
            <a:xfrm>
              <a:off x="3706920" y="1278000"/>
              <a:ext cx="19350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assess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regular and ad hoc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matic risk assessmen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1" name="_s2054"/>
            <p:cNvSpPr/>
            <p:nvPr/>
          </p:nvSpPr>
          <p:spPr>
            <a:xfrm>
              <a:off x="4397400" y="249876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2" name="_s2055"/>
            <p:cNvSpPr/>
            <p:nvPr/>
          </p:nvSpPr>
          <p:spPr>
            <a:xfrm>
              <a:off x="6534000" y="262908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and supporting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effective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unctioning of 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3" name="_s2056"/>
            <p:cNvSpPr/>
            <p:nvPr/>
          </p:nvSpPr>
          <p:spPr>
            <a:xfrm>
              <a:off x="4122720" y="3348000"/>
              <a:ext cx="1996920" cy="1997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4" name="_s2057"/>
            <p:cNvSpPr/>
            <p:nvPr/>
          </p:nvSpPr>
          <p:spPr>
            <a:xfrm>
              <a:off x="5824440" y="531504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risis manage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apacity to handle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mergency situation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5" name="_s2058"/>
            <p:cNvSpPr/>
            <p:nvPr/>
          </p:nvSpPr>
          <p:spPr>
            <a:xfrm>
              <a:off x="3230640" y="334980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6" name="_s2059"/>
            <p:cNvSpPr/>
            <p:nvPr/>
          </p:nvSpPr>
          <p:spPr>
            <a:xfrm>
              <a:off x="1589040" y="5316480"/>
              <a:ext cx="19353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dashboard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a system of key risk indicator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7" name="_s2060"/>
            <p:cNvSpPr/>
            <p:nvPr/>
          </p:nvSpPr>
          <p:spPr>
            <a:xfrm>
              <a:off x="2952720" y="2502000"/>
              <a:ext cx="1997280" cy="19969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8" name="_s2061"/>
            <p:cNvSpPr/>
            <p:nvPr/>
          </p:nvSpPr>
          <p:spPr>
            <a:xfrm>
              <a:off x="878040" y="2630520"/>
              <a:ext cx="193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Stress testing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ommon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thodologies and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conducting EU-wid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ess tes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379080"/>
            <a:ext cx="8281800" cy="6937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EU-wide stress tests of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, in cooperation with the ESRB, initiate and coordinate EU-wide assessments of the resilience of financial institutions to adverse market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develops, for application by the competent authorities, common methodologies for assessing the effect of economic scenarios on an institution's financial pos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shall, where appropriate, address recommendation to the competent authority to correct issues identified in the stres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dashboards on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to monitor major banks: major EU banks to regularly report to EBA via national supervisors - easier with single supervisory reporting in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analyse and provide peer group data to national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also to be used as input for ESRB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RB to provided systems wide analysis and possible recommendations to EBA or 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SAs to respond to recommendations via 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-annual risk assess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anks on which the EBA undertakes a bi-annu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ss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ED IRISH BANK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ILBAO VIZCAYA ARGENTARIA (ES)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CO SANTANDER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K OF IRELAND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RCLAY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YERISCHE LANDES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NP PARIBAS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IXA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IXA GERAL DE DEPÓSITOS (PT)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RZ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DIT AGRICO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NSKE BANK (DK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UTSCHE 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XIA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G-EURBANK (GR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52880" y="2457360"/>
            <a:ext cx="3849840" cy="36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RSTE GROUP BANK (AT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SBC HOLDING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G 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SA SANPAOLO (I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BC GROEP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LOYDS BANKING GROUP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LLENNIUM BCP (P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TIONAL BANK OF GREECE (G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RDEA BANK (S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BO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YAL BANK OF SCOTLAND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ZB (A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KANDINAVISKA ENSKILDA BANKEN (SE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ETE GENERA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IT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assessments for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performing risk assessment based upon national S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maps own risk assessment to commo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ssessments to be discussed within college under the steer of the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llenge is to achieve a joint assessment of risks and common decisions on the adequacy of capital and possible supervisor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se national EU supervisors disagree, EBA to mediate and take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EU supervisors can also to take part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untry regulatory regime still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s from the crisis: need to open a debate on best supervisory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lleges for 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 to day supervision by national supervisory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ion organised via colleges of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otal about 110 EU cross border ba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role of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cisions in core college = most involve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communication group-wide via extended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globally operating EU bank has one college, with supervisors from within and outside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960" y="464760"/>
            <a:ext cx="8267760" cy="6080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504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’s role in Supervisory College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4600" y="1071720"/>
            <a:ext cx="82566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2160" tIns="270000" bIns="90000" anchor="t">
            <a:normAutofit/>
          </a:bodyPr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build capacity to effectively oversee colleges of EU cross bord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contribute to promoting and monitoring the efficient, effective and consistent functioning of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taff to participate in college activities (e.g. Calling a meeting of the college, providing input to the agenda, monitor the functioning- but not lead the college per s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may collect and share information and manage a central system of information to facilitate the work of the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oversee the tasks carried out by the competent auth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hall develop BTS, Guidelines and Recommendations on the functioning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280360" y="6497640"/>
            <a:ext cx="536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nding Medi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3352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ttlement of disagreements in cross-border situ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between home and host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from one or more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joint decision on an advanced model IRB/AM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sets a timeframe to come to an agreement and moderates – in case no agreement is reached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panel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of Supervisors takes final decis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competent authorities take decisions in line with BoS decision, this is followed up by the 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ectoral settlement of disagreements (together with EIOPA and ESMA)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lvl="1" marL="395280" indent="-189000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Crisis manage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068480"/>
            <a:ext cx="8277120" cy="533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se to emerging risks/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sis management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d to systemic ri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and Resolution Plans and appropriate financing instru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ily prohibit or restrict certain financial activities that threaten the orderly functioning/ integrity of financial markets, under 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62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 algn="just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follow up power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079280"/>
            <a:ext cx="8278920" cy="5429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member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mergency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settling of dis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national authorities do not comply with EBA decision in art. 18 or 19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ational authorities do not comply with EBA recommendation in cases of breach of EU law (following COM formal opinion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directly applicable to financial institutions (includes 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750840" y="255276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THANK YOU</a:t>
            </a:r>
            <a:br>
              <a:rPr sz="3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86760" cy="560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181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71720" y="2357280"/>
            <a:ext cx="2357280" cy="214344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RB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857840" y="2286000"/>
            <a:ext cx="2357280" cy="214308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FS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9" name="Left-Right Arrow 10"/>
          <p:cNvSpPr/>
          <p:nvPr/>
        </p:nvSpPr>
        <p:spPr>
          <a:xfrm>
            <a:off x="3643200" y="3071880"/>
            <a:ext cx="1000080" cy="6429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48578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OP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643720" y="3071880"/>
            <a:ext cx="792000" cy="1368360"/>
          </a:xfrm>
          <a:prstGeom prst="rect">
            <a:avLst/>
          </a:prstGeom>
          <a:solidFill>
            <a:srgbClr val="00cc99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64292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M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857840" y="2286000"/>
            <a:ext cx="2347920" cy="7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Committee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1042920" y="126828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entral ban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4859280" y="119700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supervisor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1143000" y="5072040"/>
            <a:ext cx="2286000" cy="92880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4857840" y="5000760"/>
            <a:ext cx="2286000" cy="92844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9640" y="473040"/>
            <a:ext cx="820260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90000" bIns="90000" anchor="b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uropean System of Financial Supervis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4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9496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Banking Author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1 Jan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untable to the European Parliament and the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assumes all of the tasks and competences of CEBS and addition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t in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Clause (2014 and all 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ndrew Critchell LRPS Tower 42 1 large"/>
          <p:cNvPicPr/>
          <p:nvPr/>
        </p:nvPicPr>
        <p:blipFill>
          <a:blip r:embed="rId1"/>
          <a:stretch/>
        </p:blipFill>
        <p:spPr>
          <a:xfrm>
            <a:off x="5464080" y="1077840"/>
            <a:ext cx="3351240" cy="53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The role of EBA – main objectives and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640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ing EU single rul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and enhancing quality and consistency of super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inforcing oversight of cross-bord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warning of upcoming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early intervention and 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071720"/>
            <a:ext cx="415116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t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binding technical standards, guidelines, 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common supervisory culture / supervisory pract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ng on breach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group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ing and promoting effectiveness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-wide risk assessments and stres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ng on risk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ling of emergency situ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6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Organisational set up - overview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lvl="1" marL="37296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ree clusters according to EBA tasks: Regulation, Oversight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mbers’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s which enable effective decision making and interaction with member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s’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takeholder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traight Connector 53"/>
          <p:cNvSpPr/>
          <p:nvPr/>
        </p:nvSpPr>
        <p:spPr>
          <a:xfrm flipH="1">
            <a:off x="807192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9" name="Straight Connector 86"/>
          <p:cNvSpPr/>
          <p:nvPr/>
        </p:nvSpPr>
        <p:spPr>
          <a:xfrm flipH="1">
            <a:off x="92664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0" name="Straight Connector 88"/>
          <p:cNvSpPr/>
          <p:nvPr/>
        </p:nvSpPr>
        <p:spPr>
          <a:xfrm flipH="1">
            <a:off x="2784600" y="2286000"/>
            <a:ext cx="144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1" name="Straight Connector 31"/>
          <p:cNvSpPr/>
          <p:nvPr/>
        </p:nvSpPr>
        <p:spPr>
          <a:xfrm flipH="1">
            <a:off x="928440" y="2286000"/>
            <a:ext cx="71434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112" name="Rounded Rectangle 4"/>
          <p:cNvGrpSpPr/>
          <p:nvPr/>
        </p:nvGrpSpPr>
        <p:grpSpPr>
          <a:xfrm>
            <a:off x="3840120" y="268200"/>
            <a:ext cx="1463760" cy="609840"/>
            <a:chOff x="3840120" y="268200"/>
            <a:chExt cx="1463760" cy="609840"/>
          </a:xfrm>
        </p:grpSpPr>
        <p:pic>
          <p:nvPicPr>
            <p:cNvPr id="113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3840120" y="268200"/>
              <a:ext cx="1463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86200" y="314280"/>
              <a:ext cx="1371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hairperson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ndrea Enria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5" name="Rounded Rectangle 6"/>
          <p:cNvGrpSpPr/>
          <p:nvPr/>
        </p:nvGrpSpPr>
        <p:grpSpPr>
          <a:xfrm>
            <a:off x="2127240" y="2408400"/>
            <a:ext cx="1317600" cy="536400"/>
            <a:chOff x="2127240" y="2408400"/>
            <a:chExt cx="1317600" cy="536400"/>
          </a:xfrm>
        </p:grpSpPr>
        <p:pic>
          <p:nvPicPr>
            <p:cNvPr id="116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127240" y="2408400"/>
              <a:ext cx="13176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66840" y="2452680"/>
              <a:ext cx="1238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egulation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sabelle Vailla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8" name="Rounded Rectangle 7"/>
          <p:cNvGrpSpPr/>
          <p:nvPr/>
        </p:nvGrpSpPr>
        <p:grpSpPr>
          <a:xfrm>
            <a:off x="268200" y="2408400"/>
            <a:ext cx="1322640" cy="536400"/>
            <a:chOff x="268200" y="2408400"/>
            <a:chExt cx="1322640" cy="536400"/>
          </a:xfrm>
        </p:grpSpPr>
        <p:pic>
          <p:nvPicPr>
            <p:cNvPr id="11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268200" y="2408400"/>
              <a:ext cx="1322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960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versight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iers Habe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1" name="Rounded Rectangle 8"/>
          <p:cNvGrpSpPr/>
          <p:nvPr/>
        </p:nvGrpSpPr>
        <p:grpSpPr>
          <a:xfrm>
            <a:off x="7412040" y="2408400"/>
            <a:ext cx="1324080" cy="536400"/>
            <a:chOff x="7412040" y="2408400"/>
            <a:chExt cx="1324080" cy="536400"/>
          </a:xfrm>
        </p:grpSpPr>
        <p:pic>
          <p:nvPicPr>
            <p:cNvPr id="122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7412040" y="2408400"/>
              <a:ext cx="13240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5344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perations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eter Mihalik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4" name="Rounded Rectangle 16"/>
          <p:cNvGrpSpPr/>
          <p:nvPr/>
        </p:nvGrpSpPr>
        <p:grpSpPr>
          <a:xfrm>
            <a:off x="3919680" y="3273480"/>
            <a:ext cx="927000" cy="536400"/>
            <a:chOff x="3919680" y="3273480"/>
            <a:chExt cx="927000" cy="536400"/>
          </a:xfrm>
        </p:grpSpPr>
        <p:pic>
          <p:nvPicPr>
            <p:cNvPr id="125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39196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95280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Analysis and Coordina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7" name="Rounded Rectangle 19"/>
          <p:cNvGrpSpPr/>
          <p:nvPr/>
        </p:nvGrpSpPr>
        <p:grpSpPr>
          <a:xfrm>
            <a:off x="628560" y="1633680"/>
            <a:ext cx="1389240" cy="457200"/>
            <a:chOff x="628560" y="1633680"/>
            <a:chExt cx="1389240" cy="457200"/>
          </a:xfrm>
        </p:grpSpPr>
        <p:pic>
          <p:nvPicPr>
            <p:cNvPr id="128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628560" y="1633680"/>
              <a:ext cx="1389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63480" y="1663560"/>
              <a:ext cx="13161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Legal Counsel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0" name="Rounded Rectangle 20"/>
          <p:cNvGrpSpPr/>
          <p:nvPr/>
        </p:nvGrpSpPr>
        <p:grpSpPr>
          <a:xfrm>
            <a:off x="6559560" y="1633680"/>
            <a:ext cx="1388880" cy="457200"/>
            <a:chOff x="6559560" y="1633680"/>
            <a:chExt cx="1388880" cy="457200"/>
          </a:xfrm>
        </p:grpSpPr>
        <p:pic>
          <p:nvPicPr>
            <p:cNvPr id="131" name="Rounded Rectangle 20" descr=""/>
            <p:cNvPicPr/>
            <p:nvPr/>
          </p:nvPicPr>
          <p:blipFill>
            <a:blip r:embed="rId7"/>
            <a:stretch/>
          </p:blipFill>
          <p:spPr>
            <a:xfrm>
              <a:off x="6559560" y="1633680"/>
              <a:ext cx="1388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93040" y="1663560"/>
              <a:ext cx="1315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ccounting Officer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3" name="Rounded Rectangle 21"/>
          <p:cNvGrpSpPr/>
          <p:nvPr/>
        </p:nvGrpSpPr>
        <p:grpSpPr>
          <a:xfrm>
            <a:off x="5632560" y="3273480"/>
            <a:ext cx="927000" cy="536400"/>
            <a:chOff x="5632560" y="3273480"/>
            <a:chExt cx="927000" cy="536400"/>
          </a:xfrm>
        </p:grpSpPr>
        <p:pic>
          <p:nvPicPr>
            <p:cNvPr id="134" name="Rounded Rectangle 21" descr=""/>
            <p:cNvPicPr/>
            <p:nvPr/>
          </p:nvPicPr>
          <p:blipFill>
            <a:blip r:embed="rId8"/>
            <a:stretch/>
          </p:blipFill>
          <p:spPr>
            <a:xfrm>
              <a:off x="563256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66892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nsumer Protec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6" name="Rounded Rectangle 22"/>
          <p:cNvGrpSpPr/>
          <p:nvPr/>
        </p:nvGrpSpPr>
        <p:grpSpPr>
          <a:xfrm>
            <a:off x="7559640" y="4413240"/>
            <a:ext cx="932040" cy="536760"/>
            <a:chOff x="7559640" y="4413240"/>
            <a:chExt cx="932040" cy="536760"/>
          </a:xfrm>
        </p:grpSpPr>
        <p:pic>
          <p:nvPicPr>
            <p:cNvPr id="137" name="Rounded Rectangle 22" descr=""/>
            <p:cNvPicPr/>
            <p:nvPr/>
          </p:nvPicPr>
          <p:blipFill>
            <a:blip r:embed="rId9"/>
            <a:stretch/>
          </p:blipFill>
          <p:spPr>
            <a:xfrm>
              <a:off x="7559640" y="441324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597800" y="4449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Communication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9" name="Rounded Rectangle 23"/>
          <p:cNvGrpSpPr/>
          <p:nvPr/>
        </p:nvGrpSpPr>
        <p:grpSpPr>
          <a:xfrm>
            <a:off x="7559640" y="4986360"/>
            <a:ext cx="932040" cy="530280"/>
            <a:chOff x="7559640" y="4986360"/>
            <a:chExt cx="932040" cy="530280"/>
          </a:xfrm>
        </p:grpSpPr>
        <p:pic>
          <p:nvPicPr>
            <p:cNvPr id="140" name="Rounded Rectangle 23" descr=""/>
            <p:cNvPicPr/>
            <p:nvPr/>
          </p:nvPicPr>
          <p:blipFill>
            <a:blip r:embed="rId10"/>
            <a:stretch/>
          </p:blipFill>
          <p:spPr>
            <a:xfrm>
              <a:off x="7559640" y="4986360"/>
              <a:ext cx="9320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97800" y="5021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Office Managemen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2" name="Rounded Rectangle 24"/>
          <p:cNvGrpSpPr/>
          <p:nvPr/>
        </p:nvGrpSpPr>
        <p:grpSpPr>
          <a:xfrm>
            <a:off x="7559640" y="5553000"/>
            <a:ext cx="932040" cy="536760"/>
            <a:chOff x="7559640" y="5553000"/>
            <a:chExt cx="932040" cy="536760"/>
          </a:xfrm>
        </p:grpSpPr>
        <p:pic>
          <p:nvPicPr>
            <p:cNvPr id="143" name="Rounded Rectangle 24" descr=""/>
            <p:cNvPicPr/>
            <p:nvPr/>
          </p:nvPicPr>
          <p:blipFill>
            <a:blip r:embed="rId11"/>
            <a:stretch/>
          </p:blipFill>
          <p:spPr>
            <a:xfrm>
              <a:off x="7559640" y="555300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97800" y="5592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Finance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5" name="Rounded Rectangle 25"/>
          <p:cNvGrpSpPr/>
          <p:nvPr/>
        </p:nvGrpSpPr>
        <p:grpSpPr>
          <a:xfrm>
            <a:off x="3919680" y="3986280"/>
            <a:ext cx="785520" cy="390600"/>
            <a:chOff x="3919680" y="3986280"/>
            <a:chExt cx="785520" cy="390600"/>
          </a:xfrm>
        </p:grpSpPr>
        <p:pic>
          <p:nvPicPr>
            <p:cNvPr id="146" name="Rounded Rectangle 25" descr=""/>
            <p:cNvPicPr/>
            <p:nvPr/>
          </p:nvPicPr>
          <p:blipFill>
            <a:blip r:embed="rId12"/>
            <a:stretch/>
          </p:blipFill>
          <p:spPr>
            <a:xfrm>
              <a:off x="3919680" y="398628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46680" y="401472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Legal Analysi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8" name="Rounded Rectangle 26"/>
          <p:cNvGrpSpPr/>
          <p:nvPr/>
        </p:nvGrpSpPr>
        <p:grpSpPr>
          <a:xfrm>
            <a:off x="3919680" y="4486320"/>
            <a:ext cx="785520" cy="390600"/>
            <a:chOff x="3919680" y="4486320"/>
            <a:chExt cx="785520" cy="390600"/>
          </a:xfrm>
        </p:grpSpPr>
        <p:pic>
          <p:nvPicPr>
            <p:cNvPr id="149" name="Rounded Rectangle 26" descr=""/>
            <p:cNvPicPr/>
            <p:nvPr/>
          </p:nvPicPr>
          <p:blipFill>
            <a:blip r:embed="rId13"/>
            <a:stretch/>
          </p:blipFill>
          <p:spPr>
            <a:xfrm>
              <a:off x="3919680" y="448632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46680" y="451800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mpact Assessme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1" name="Rounded Rectangle 27"/>
          <p:cNvGrpSpPr/>
          <p:nvPr/>
        </p:nvGrpSpPr>
        <p:grpSpPr>
          <a:xfrm>
            <a:off x="3919680" y="4986360"/>
            <a:ext cx="785520" cy="390600"/>
            <a:chOff x="3919680" y="4986360"/>
            <a:chExt cx="785520" cy="390600"/>
          </a:xfrm>
        </p:grpSpPr>
        <p:pic>
          <p:nvPicPr>
            <p:cNvPr id="152" name="Rounded Rectangle 27" descr=""/>
            <p:cNvPicPr/>
            <p:nvPr/>
          </p:nvPicPr>
          <p:blipFill>
            <a:blip r:embed="rId14"/>
            <a:stretch/>
          </p:blipFill>
          <p:spPr>
            <a:xfrm>
              <a:off x="3919680" y="498636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946680" y="501804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olicy Coordinatio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4" name="Rounded Rectangle 5"/>
          <p:cNvGrpSpPr/>
          <p:nvPr/>
        </p:nvGrpSpPr>
        <p:grpSpPr>
          <a:xfrm>
            <a:off x="3876840" y="1054080"/>
            <a:ext cx="1427040" cy="609480"/>
            <a:chOff x="3876840" y="1054080"/>
            <a:chExt cx="1427040" cy="609480"/>
          </a:xfrm>
        </p:grpSpPr>
        <p:pic>
          <p:nvPicPr>
            <p:cNvPr id="155" name="Rounded Rectangle 5" descr=""/>
            <p:cNvPicPr/>
            <p:nvPr/>
          </p:nvPicPr>
          <p:blipFill>
            <a:blip r:embed="rId15"/>
            <a:stretch/>
          </p:blipFill>
          <p:spPr>
            <a:xfrm>
              <a:off x="3876840" y="1054080"/>
              <a:ext cx="1427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925800" y="1100160"/>
              <a:ext cx="1332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Executive Director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dam Farka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7" name="Rounded Rectangle 120"/>
          <p:cNvGrpSpPr/>
          <p:nvPr/>
        </p:nvGrpSpPr>
        <p:grpSpPr>
          <a:xfrm>
            <a:off x="7559640" y="3840120"/>
            <a:ext cx="932040" cy="536760"/>
            <a:chOff x="7559640" y="3840120"/>
            <a:chExt cx="932040" cy="536760"/>
          </a:xfrm>
        </p:grpSpPr>
        <p:pic>
          <p:nvPicPr>
            <p:cNvPr id="158" name="Rounded Rectangle 120" descr=""/>
            <p:cNvPicPr/>
            <p:nvPr/>
          </p:nvPicPr>
          <p:blipFill>
            <a:blip r:embed="rId16"/>
            <a:stretch/>
          </p:blipFill>
          <p:spPr>
            <a:xfrm>
              <a:off x="7559640" y="384012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97800" y="3878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I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0" name="Rounded Rectangle 121"/>
          <p:cNvGrpSpPr/>
          <p:nvPr/>
        </p:nvGrpSpPr>
        <p:grpSpPr>
          <a:xfrm>
            <a:off x="487440" y="3273480"/>
            <a:ext cx="933480" cy="536400"/>
            <a:chOff x="487440" y="3273480"/>
            <a:chExt cx="933480" cy="536400"/>
          </a:xfrm>
        </p:grpSpPr>
        <p:pic>
          <p:nvPicPr>
            <p:cNvPr id="161" name="Rounded Rectangle 121" descr=""/>
            <p:cNvPicPr/>
            <p:nvPr/>
          </p:nvPicPr>
          <p:blipFill>
            <a:blip r:embed="rId17"/>
            <a:stretch/>
          </p:blipFill>
          <p:spPr>
            <a:xfrm>
              <a:off x="487440" y="3273480"/>
              <a:ext cx="9334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25600" y="3309840"/>
              <a:ext cx="8506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 Sector Analysis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3" name="Rounded Rectangle 122"/>
          <p:cNvGrpSpPr/>
          <p:nvPr/>
        </p:nvGrpSpPr>
        <p:grpSpPr>
          <a:xfrm>
            <a:off x="487440" y="3919680"/>
            <a:ext cx="890640" cy="457200"/>
            <a:chOff x="487440" y="3919680"/>
            <a:chExt cx="890640" cy="457200"/>
          </a:xfrm>
        </p:grpSpPr>
        <p:pic>
          <p:nvPicPr>
            <p:cNvPr id="164" name="Rounded Rectangle 122" descr=""/>
            <p:cNvPicPr/>
            <p:nvPr/>
          </p:nvPicPr>
          <p:blipFill>
            <a:blip r:embed="rId18"/>
            <a:stretch/>
          </p:blipFill>
          <p:spPr>
            <a:xfrm>
              <a:off x="487440" y="3919680"/>
              <a:ext cx="890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20560" y="3949560"/>
              <a:ext cx="8161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ing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upervis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6" name="Rounded Rectangle 123"/>
          <p:cNvGrpSpPr/>
          <p:nvPr/>
        </p:nvGrpSpPr>
        <p:grpSpPr>
          <a:xfrm>
            <a:off x="2346480" y="3919680"/>
            <a:ext cx="927000" cy="529920"/>
            <a:chOff x="2346480" y="3919680"/>
            <a:chExt cx="927000" cy="529920"/>
          </a:xfrm>
        </p:grpSpPr>
        <p:pic>
          <p:nvPicPr>
            <p:cNvPr id="167" name="Rounded Rectangle 123" descr=""/>
            <p:cNvPicPr/>
            <p:nvPr/>
          </p:nvPicPr>
          <p:blipFill>
            <a:blip r:embed="rId19"/>
            <a:stretch/>
          </p:blipFill>
          <p:spPr>
            <a:xfrm>
              <a:off x="2346480" y="3919680"/>
              <a:ext cx="927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382840" y="3954600"/>
              <a:ext cx="851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2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9" name="Rounded Rectangle 143"/>
          <p:cNvGrpSpPr/>
          <p:nvPr/>
        </p:nvGrpSpPr>
        <p:grpSpPr>
          <a:xfrm>
            <a:off x="7559640" y="3273480"/>
            <a:ext cx="932040" cy="536400"/>
            <a:chOff x="7559640" y="3273480"/>
            <a:chExt cx="932040" cy="536400"/>
          </a:xfrm>
        </p:grpSpPr>
        <p:pic>
          <p:nvPicPr>
            <p:cNvPr id="170" name="Rounded Rectangle 143" descr=""/>
            <p:cNvPicPr/>
            <p:nvPr/>
          </p:nvPicPr>
          <p:blipFill>
            <a:blip r:embed="rId20"/>
            <a:stretch/>
          </p:blipFill>
          <p:spPr>
            <a:xfrm>
              <a:off x="7559640" y="3273480"/>
              <a:ext cx="932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9780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HR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72" name="Rounded Rectangle 149"/>
          <p:cNvGrpSpPr/>
          <p:nvPr/>
        </p:nvGrpSpPr>
        <p:grpSpPr>
          <a:xfrm>
            <a:off x="2346480" y="3273480"/>
            <a:ext cx="927000" cy="536400"/>
            <a:chOff x="2346480" y="3273480"/>
            <a:chExt cx="927000" cy="536400"/>
          </a:xfrm>
        </p:grpSpPr>
        <p:pic>
          <p:nvPicPr>
            <p:cNvPr id="173" name="Rounded Rectangle 149" descr=""/>
            <p:cNvPicPr/>
            <p:nvPr/>
          </p:nvPicPr>
          <p:blipFill>
            <a:blip r:embed="rId21"/>
            <a:stretch/>
          </p:blipFill>
          <p:spPr>
            <a:xfrm>
              <a:off x="23464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8284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1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sp>
        <p:nvSpPr>
          <p:cNvPr id="175" name="Straight Connector 154"/>
          <p:cNvSpPr/>
          <p:nvPr/>
        </p:nvSpPr>
        <p:spPr>
          <a:xfrm flipH="1">
            <a:off x="437832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6" name="Straight Connector 175"/>
          <p:cNvSpPr/>
          <p:nvPr/>
        </p:nvSpPr>
        <p:spPr>
          <a:xfrm flipH="1">
            <a:off x="4572000" y="857160"/>
            <a:ext cx="1440" cy="2145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7" name="Straight Connector 176"/>
          <p:cNvSpPr/>
          <p:nvPr/>
        </p:nvSpPr>
        <p:spPr>
          <a:xfrm flipH="1">
            <a:off x="4570560" y="1643040"/>
            <a:ext cx="1440" cy="642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8" name="Straight Connector 41"/>
          <p:cNvSpPr/>
          <p:nvPr/>
        </p:nvSpPr>
        <p:spPr>
          <a:xfrm>
            <a:off x="3571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 flipV="1">
            <a:off x="356760" y="3533400"/>
            <a:ext cx="142920" cy="46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0" name="Straight Connector 46"/>
          <p:cNvSpPr/>
          <p:nvPr/>
        </p:nvSpPr>
        <p:spPr>
          <a:xfrm flipH="1">
            <a:off x="356760" y="4143240"/>
            <a:ext cx="14292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1" name="Straight Connector 47"/>
          <p:cNvSpPr/>
          <p:nvPr/>
        </p:nvSpPr>
        <p:spPr>
          <a:xfrm>
            <a:off x="22147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2" name="Straight Connector 48"/>
          <p:cNvSpPr/>
          <p:nvPr/>
        </p:nvSpPr>
        <p:spPr>
          <a:xfrm flipH="1">
            <a:off x="2214720" y="350028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3" name="Straight Connector 49"/>
          <p:cNvSpPr/>
          <p:nvPr/>
        </p:nvSpPr>
        <p:spPr>
          <a:xfrm flipH="1">
            <a:off x="2214720" y="414324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4" name="Straight Connector 63"/>
          <p:cNvSpPr/>
          <p:nvPr/>
        </p:nvSpPr>
        <p:spPr>
          <a:xfrm flipH="1">
            <a:off x="8643960" y="2928960"/>
            <a:ext cx="1440" cy="2928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5" name="Straight Connector 69"/>
          <p:cNvSpPr/>
          <p:nvPr/>
        </p:nvSpPr>
        <p:spPr>
          <a:xfrm flipH="1" flipV="1">
            <a:off x="2000160" y="1855800"/>
            <a:ext cx="4572000" cy="14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6" name="Straight Connector 76"/>
          <p:cNvSpPr/>
          <p:nvPr/>
        </p:nvSpPr>
        <p:spPr>
          <a:xfrm flipH="1" flipV="1">
            <a:off x="8500680" y="34999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7" name="Straight Connector 77"/>
          <p:cNvSpPr/>
          <p:nvPr/>
        </p:nvSpPr>
        <p:spPr>
          <a:xfrm flipH="1" flipV="1">
            <a:off x="8500680" y="4068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8" name="Straight Connector 78"/>
          <p:cNvSpPr/>
          <p:nvPr/>
        </p:nvSpPr>
        <p:spPr>
          <a:xfrm flipH="1" flipV="1">
            <a:off x="8500680" y="4640400"/>
            <a:ext cx="142920" cy="28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9" name="Straight Connector 79"/>
          <p:cNvSpPr/>
          <p:nvPr/>
        </p:nvSpPr>
        <p:spPr>
          <a:xfrm flipH="1" flipV="1">
            <a:off x="8500680" y="5211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0" name="Straight Connector 80"/>
          <p:cNvSpPr/>
          <p:nvPr/>
        </p:nvSpPr>
        <p:spPr>
          <a:xfrm flipH="1" flipV="1">
            <a:off x="8500680" y="58543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1" name="Straight Connector 81"/>
          <p:cNvSpPr/>
          <p:nvPr/>
        </p:nvSpPr>
        <p:spPr>
          <a:xfrm>
            <a:off x="4786200" y="3786120"/>
            <a:ext cx="0" cy="14288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2" name="Straight Connector 82"/>
          <p:cNvSpPr/>
          <p:nvPr/>
        </p:nvSpPr>
        <p:spPr>
          <a:xfrm flipH="1">
            <a:off x="4714920" y="421488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3" name="Straight Connector 85"/>
          <p:cNvSpPr/>
          <p:nvPr/>
        </p:nvSpPr>
        <p:spPr>
          <a:xfrm flipH="1">
            <a:off x="4714920" y="471492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4" name="Straight Connector 87"/>
          <p:cNvSpPr/>
          <p:nvPr/>
        </p:nvSpPr>
        <p:spPr>
          <a:xfrm flipH="1">
            <a:off x="4714920" y="521496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5" name="Straight Connector 93"/>
          <p:cNvSpPr/>
          <p:nvPr/>
        </p:nvSpPr>
        <p:spPr>
          <a:xfrm flipH="1">
            <a:off x="606420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7"/>
          <p:cNvSpPr/>
          <p:nvPr/>
        </p:nvSpPr>
        <p:spPr>
          <a:xfrm>
            <a:off x="531720" y="914400"/>
            <a:ext cx="8282160" cy="55497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293400"/>
            <a:ext cx="8281800" cy="6253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396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Members’ Organis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198" name="Group 18" descr=""/>
          <p:cNvPicPr/>
          <p:nvPr/>
        </p:nvPicPr>
        <p:blipFill>
          <a:blip r:embed="rId1"/>
          <a:stretch/>
        </p:blipFill>
        <p:spPr>
          <a:xfrm>
            <a:off x="3382920" y="1060560"/>
            <a:ext cx="2451240" cy="744480"/>
          </a:xfrm>
          <a:prstGeom prst="rect">
            <a:avLst/>
          </a:prstGeom>
          <a:ln w="0">
            <a:noFill/>
          </a:ln>
        </p:spPr>
      </p:pic>
      <p:pic>
        <p:nvPicPr>
          <p:cNvPr id="199" name="Group 30" descr=""/>
          <p:cNvPicPr/>
          <p:nvPr/>
        </p:nvPicPr>
        <p:blipFill>
          <a:blip r:embed="rId2"/>
          <a:stretch/>
        </p:blipFill>
        <p:spPr>
          <a:xfrm>
            <a:off x="1957320" y="4827600"/>
            <a:ext cx="1712880" cy="113976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8" descr=""/>
          <p:cNvPicPr/>
          <p:nvPr/>
        </p:nvPicPr>
        <p:blipFill>
          <a:blip r:embed="rId3"/>
          <a:stretch/>
        </p:blipFill>
        <p:spPr>
          <a:xfrm>
            <a:off x="1925640" y="2060640"/>
            <a:ext cx="2451240" cy="74916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8" descr=""/>
          <p:cNvPicPr/>
          <p:nvPr/>
        </p:nvPicPr>
        <p:blipFill>
          <a:blip r:embed="rId4"/>
          <a:stretch/>
        </p:blipFill>
        <p:spPr>
          <a:xfrm>
            <a:off x="1023840" y="3486240"/>
            <a:ext cx="1712880" cy="114120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8" descr=""/>
          <p:cNvPicPr/>
          <p:nvPr/>
        </p:nvPicPr>
        <p:blipFill>
          <a:blip r:embed="rId5"/>
          <a:stretch/>
        </p:blipFill>
        <p:spPr>
          <a:xfrm>
            <a:off x="4767120" y="4846680"/>
            <a:ext cx="1719360" cy="113976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8" descr=""/>
          <p:cNvPicPr/>
          <p:nvPr/>
        </p:nvPicPr>
        <p:blipFill>
          <a:blip r:embed="rId6"/>
          <a:stretch/>
        </p:blipFill>
        <p:spPr>
          <a:xfrm>
            <a:off x="6400800" y="3486240"/>
            <a:ext cx="1719360" cy="1141200"/>
          </a:xfrm>
          <a:prstGeom prst="rect">
            <a:avLst/>
          </a:prstGeom>
          <a:ln w="0">
            <a:noFill/>
          </a:ln>
        </p:spPr>
      </p:pic>
      <p:pic>
        <p:nvPicPr>
          <p:cNvPr id="204" name="Group 75" descr=""/>
          <p:cNvPicPr/>
          <p:nvPr/>
        </p:nvPicPr>
        <p:blipFill>
          <a:blip r:embed="rId7"/>
          <a:stretch/>
        </p:blipFill>
        <p:spPr>
          <a:xfrm>
            <a:off x="4900680" y="1878120"/>
            <a:ext cx="1622520" cy="536400"/>
          </a:xfrm>
          <a:prstGeom prst="rect">
            <a:avLst/>
          </a:prstGeom>
          <a:ln w="0">
            <a:noFill/>
          </a:ln>
        </p:spPr>
      </p:pic>
      <p:pic>
        <p:nvPicPr>
          <p:cNvPr id="205" name="Group 72" descr=""/>
          <p:cNvPicPr/>
          <p:nvPr/>
        </p:nvPicPr>
        <p:blipFill>
          <a:blip r:embed="rId8"/>
          <a:stretch/>
        </p:blipFill>
        <p:spPr>
          <a:xfrm>
            <a:off x="4919760" y="2401920"/>
            <a:ext cx="1584360" cy="542880"/>
          </a:xfrm>
          <a:prstGeom prst="rect">
            <a:avLst/>
          </a:prstGeom>
          <a:ln w="0">
            <a:noFill/>
          </a:ln>
        </p:spPr>
      </p:pic>
      <p:sp>
        <p:nvSpPr>
          <p:cNvPr id="206" name="Right Arrow 57"/>
          <p:cNvSpPr/>
          <p:nvPr/>
        </p:nvSpPr>
        <p:spPr>
          <a:xfrm>
            <a:off x="934920" y="1636560"/>
            <a:ext cx="628920" cy="1000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3840" indent="-18756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7" name="Straight Connector 62"/>
          <p:cNvSpPr/>
          <p:nvPr/>
        </p:nvSpPr>
        <p:spPr>
          <a:xfrm>
            <a:off x="4614840" y="174312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8" name="Straight Connector 66"/>
          <p:cNvSpPr/>
          <p:nvPr/>
        </p:nvSpPr>
        <p:spPr>
          <a:xfrm>
            <a:off x="1817640" y="3114720"/>
            <a:ext cx="54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9" name="Straight Connector 70"/>
          <p:cNvSpPr/>
          <p:nvPr/>
        </p:nvSpPr>
        <p:spPr>
          <a:xfrm>
            <a:off x="1817640" y="312588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0" name="Straight Connector 78"/>
          <p:cNvSpPr/>
          <p:nvPr/>
        </p:nvSpPr>
        <p:spPr>
          <a:xfrm>
            <a:off x="3098880" y="3157560"/>
            <a:ext cx="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1" name="Straight Connector 81"/>
          <p:cNvSpPr/>
          <p:nvPr/>
        </p:nvSpPr>
        <p:spPr>
          <a:xfrm flipH="1">
            <a:off x="5613480" y="3121200"/>
            <a:ext cx="1440" cy="17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2" name="Straight Connector 82"/>
          <p:cNvSpPr/>
          <p:nvPr/>
        </p:nvSpPr>
        <p:spPr>
          <a:xfrm>
            <a:off x="7243920" y="312912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3" name="Straight Connector 87"/>
          <p:cNvSpPr/>
          <p:nvPr/>
        </p:nvSpPr>
        <p:spPr>
          <a:xfrm>
            <a:off x="4324320" y="237168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4" name="Straight Connector 89"/>
          <p:cNvSpPr/>
          <p:nvPr/>
        </p:nvSpPr>
        <p:spPr>
          <a:xfrm>
            <a:off x="4635360" y="267192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5" name="Straight Connector 90"/>
          <p:cNvSpPr/>
          <p:nvPr/>
        </p:nvSpPr>
        <p:spPr>
          <a:xfrm>
            <a:off x="4638600" y="211284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cxnSp>
        <p:nvCxnSpPr>
          <p:cNvPr id="216" name="Straight Arrow Connector 92"/>
          <p:cNvCxnSpPr/>
          <p:nvPr/>
        </p:nvCxnSpPr>
        <p:spPr>
          <a:xfrm>
            <a:off x="8048520" y="194616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217" name="Straight Connector 42"/>
          <p:cNvSpPr/>
          <p:nvPr/>
        </p:nvSpPr>
        <p:spPr>
          <a:xfrm>
            <a:off x="4411800" y="313200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218" name="Group 30" descr=""/>
          <p:cNvPicPr/>
          <p:nvPr/>
        </p:nvPicPr>
        <p:blipFill>
          <a:blip r:embed="rId9"/>
          <a:stretch/>
        </p:blipFill>
        <p:spPr>
          <a:xfrm>
            <a:off x="3449520" y="3548160"/>
            <a:ext cx="1719360" cy="1146240"/>
          </a:xfrm>
          <a:prstGeom prst="rect">
            <a:avLst/>
          </a:prstGeom>
          <a:ln w="0">
            <a:noFill/>
          </a:ln>
        </p:spPr>
      </p:pic>
      <p:pic>
        <p:nvPicPr>
          <p:cNvPr id="219" name="Group 75" descr=""/>
          <p:cNvPicPr/>
          <p:nvPr/>
        </p:nvPicPr>
        <p:blipFill>
          <a:blip r:embed="rId10"/>
          <a:stretch/>
        </p:blipFill>
        <p:spPr>
          <a:xfrm>
            <a:off x="6583320" y="2200320"/>
            <a:ext cx="162252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52"/>
          <p:cNvSpPr/>
          <p:nvPr/>
        </p:nvSpPr>
        <p:spPr>
          <a:xfrm>
            <a:off x="4622760" y="2401920"/>
            <a:ext cx="2008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10:20Z</dcterms:created>
  <dc:creator>Christian Moor</dc:creator>
  <dc:description/>
  <dc:language>en-US</dc:language>
  <cp:lastModifiedBy>cmoor</cp:lastModifiedBy>
  <dcterms:modified xsi:type="dcterms:W3CDTF">2011-12-02T16:58:14Z</dcterms:modified>
  <cp:revision>116</cp:revision>
  <dc:subject/>
  <dc:title>The European Banking Authority</dc:title>
</cp:coreProperties>
</file>